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2E9-908B-49E0-9D28-908BCCE6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302-D119-4AE2-B507-0927E5B7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6DD-262A-4752-A322-94316E06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F2A-0F48-4D26-9C78-773D42BF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013-7B8B-4BA5-B546-08EFF0D2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2AE-C975-4A3E-B7D9-CABDEB3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97F-E140-4F3A-ACEB-5EAFA61B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A43-6C60-459D-B02C-F62F6127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B13-3E7C-4EF3-AAA8-E041EC82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4D3-92BD-45E4-ACA5-B4F5368F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580-554F-4403-8D97-2B9A5F93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F6E-55A5-42F5-9A3D-F69C4E8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0D0D-21CD-4092-BD24-220BEBB52E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Тема проекта: Как помочь ребенку научиться декодировать графическую информацию?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Группа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Тиранова Александр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Козлова Любов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Добрынина Анастаси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Козлова Капитолин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Анализ программ</a:t>
            </a:r>
            <a:br>
              <a:rPr sz="4000"/>
            </a:b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Васильева, Детство, Парма, Истоки, Развитие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ким образом, анализ программ показал, что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в программах не уделяется достаточного внимания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мению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Задания для развития умений декодировать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Calibri"/>
              </a:rPr>
              <a:t>Умение определять и называть вид графического изображения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Возможные задания: «Назови, какие геометрические фигуры изображены на картинке?»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Calibri"/>
              </a:rPr>
              <a:t>2.   Анализ графического состава изображений: (свойств объекта и их частей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Возможные задания: «Из каких геометрических фигур состоит замок принцессы?»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Задания для развития умений декодирова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Calibri"/>
              </a:rPr>
              <a:t>3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.   Конструирование объектов на основе сх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зможные задания: «Построй крепость для жителей страны Графляндии по их чертежам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4.  Чтение и воспроизведение объекта на основе изображений и последовательности действ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зможные задания: «Построй кораблик из бумаги» (оригами по схеме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Волшебная страна «Графляндия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8229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Замок Принцессы Геометр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57200" y="1987560"/>
            <a:ext cx="8229600" cy="3751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Главные геро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 rot="20716800">
            <a:off x="879120" y="2885760"/>
            <a:ext cx="2836800" cy="2786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 rot="573600">
            <a:off x="4943160" y="1888920"/>
            <a:ext cx="3209760" cy="30286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7" descr=""/>
          <p:cNvPicPr/>
          <p:nvPr/>
        </p:nvPicPr>
        <p:blipFill>
          <a:blip r:embed="rId3"/>
          <a:stretch/>
        </p:blipFill>
        <p:spPr>
          <a:xfrm>
            <a:off x="712800" y="5211720"/>
            <a:ext cx="5376960" cy="11462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4"/>
          <a:stretch/>
        </p:blipFill>
        <p:spPr>
          <a:xfrm>
            <a:off x="3139920" y="4522680"/>
            <a:ext cx="62168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Вывод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ким образом,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овладение умением декодировать графическую информацию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будет способствовать наиболее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успешному  обучению ребенка в школ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, так как  учит правильно читать графические изображения, помогает ориентироваться в окружающей действительно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Рекомендаци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680" y="7855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ключать  в занятия игры и упражнения на развитие умения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ращать внимание детей на примеры декодирования встречающиеся в повседневной жизн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рганизация консультаций: «Знакомство с рабочими тетрадями» с подробным инструктажем по работе с ни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формление стендов, изготовление буклетов для родителей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2 часть оригами.avi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67928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7375e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1 часть оригами.avi" descr=""/>
          <p:cNvPicPr/>
          <p:nvPr/>
        </p:nvPicPr>
        <p:blipFill>
          <a:blip r:embed="rId1"/>
          <a:stretch/>
        </p:blipFill>
        <p:spPr>
          <a:xfrm>
            <a:off x="1428840" y="150012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Цель проекта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Ознакомить с основными приёмами декодирования графической информац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Основные задачи проект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9284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пределение понятия декодирование и состава графических умений декодирова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нализ програм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зработка диагностических заданий  для детей старшей группы по выявлению умения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зработать систему игровых заданий для развития умения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Основополагающий вопрос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85688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Может ли ребенок обойтись без умения 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декодировать графическую информацию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На заметку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Наталья Васильевна Квач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выделила 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проблемы затрудняющие успешное обучение в школ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 при слабом развитии образного мышления и несформированности графических навык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На заметку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Следовательно, условием успешного овладения графическим навыкам в частности является умение декодировать графическую информацию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Что такое декодирование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Декодирование –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 это процесс восстановления информации по её кодированной форм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Декодирование в широком смысле –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ение готовых изображени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Основные умения декодировать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определять и называть вид графического изображ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анализировать состав графического изображения: (свойств объекта и их частей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конструировать объекты на основе сх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читать и последовательно воспроизводить действия при изготовлении объектов на основе изображ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2:18:42Z</dcterms:created>
  <dc:creator>Капа</dc:creator>
  <dc:description/>
  <dc:language>en-US</dc:language>
  <cp:lastModifiedBy>Dragon</cp:lastModifiedBy>
  <dcterms:modified xsi:type="dcterms:W3CDTF">2010-01-11T07:30:28Z</dcterms:modified>
  <cp:revision>39</cp:revision>
  <dc:subject/>
  <dc:title>Тема проекта: как помочь ребенку научиться декодировать графическую информацию? </dc:title>
</cp:coreProperties>
</file>